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ултипла склероза, хронична болест нервног ткива у мозгу и кичменој мождини, мучи 350 000 Американаца, од тога отприлике 60 процената жена. Две трећине случајева мултипле склерозе дијагностиковано је код особа између 20 и 40 година живота. Код мултипле склерозе, заштитничка кора мијелина која покрива велике нервне завршетке проузрокује ситне електричне застоје унутар нерава. Људи са мултиплом склерозом могу да искусе огроман спектар могућих симптома, од незнатне слабости до парализе. У већини случајева, међутим, симптоми су пролазни. После сваког напада или погоршања, већина људи враћа се у нормално стање, док неки искусе трајну инвалидност. Научници нису сигурни шта проузрокује МС, али постоје две главне теорије: МС се често појављује у налету, наводећи неке стручњаке да претпоставе да је виновник неки вирус или микроорганизам налик вирус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rvous System</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rvous system is responsible for the perception of external and internal conditions and the body’s response to them. It has two major divisions: the central and peripheral nervous systems. The central nervous system (CNS) consists of the brain and the spinal cord; the peripheral nervous system includes two subsystems – the somatic and autonomic nervous systems. The brain is located in the cranial cavity of the skull, and the spinal cord in the spinal column, or backbone. Both are protected by cerebrospinal fluid and a series of three membranes called meninges. The CNS receives information from the skin and muscles and sends out motor commands as well. The brain functions as the center of instinctive, emotional, and cognitive proces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inal cor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anial cavity</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rospinal flui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ninge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brai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dbrai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ndbrai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ncephalo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rum</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tex</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ellum</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n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olu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ulla oblong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dr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nervous system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central and peripheral nervous system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brain fu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rain composed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forebr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the midbr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rt of the brain receives incoming messages fir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erebel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medulla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rt of the brain controls sleep and dream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glial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neurons consist o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hat mea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rving the blame or credit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give out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or the right half of the cereb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lik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lender, threadlike struc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djectives from the following noun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sp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b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dr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ul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aps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words in column A with the corresponding words in column B:</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acerebral                                                     accid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ay                                                                  concu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inal                                                                ca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rovascular                                                mat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anial                                                               haemorrh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in                                                                  ner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                                                                  inju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vi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cular                                                           twitch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oluntary                                                        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required form:</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I (write) to him bef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if he (keep) on repeating the same qu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alk as if you (know) every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ey (do) such a 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looks as though we (have) an interesting topic to discu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I (can) go there tomor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4T13:08:15Z</dcterms:modified>
  <cp:revision>13</cp:revision>
  <dc:subject/>
  <dc:title>Slide 1</dc:title>
</cp:coreProperties>
</file>